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125A65-5023-416A-8F44-1DB4B5B42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0E5113-550D-4F93-BB29-736793274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28C3B4-1B68-4960-B78D-32220F9F68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B330F5-56AB-4A46-9692-F4A1D74FDF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A75C4-FB50-4619-8F86-C3F4011BA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18FE1-AD6A-4002-9AC0-C6102D280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064B3-DA94-4BD9-BF8A-7AF730470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598E6-9DC5-42A2-A3BC-0D9E88345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2F086-8AB1-4F82-A9CB-9EDF201B3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58919-8002-4B0F-AC45-4AE699016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291CA-1CCE-46FF-BD7F-E1AD100A7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2BB0C8-406D-4421-AC85-51A8FEA2F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F4239-3B86-4CFB-88C6-028EB2EB3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55819-843A-4EC5-B0E0-475D857CD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5F6E0-9F1B-48C7-AF06-C07F8F5B6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DA7B3-1D9F-46E3-AF4F-D78D9A0EC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5ED60-5671-46F1-8CED-88C0260B8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83F0A8-3A7B-425D-97D1-46A5CAB9E8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1B4780-B7AC-4D4B-8B77-A0FF808B9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D2457D-6525-4B6F-A632-7769A31A6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97FE3F-8D60-40CB-8871-4617C8722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0582D1-08CC-4E42-9BF2-B97A35D1D1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ED934A-2B14-40F0-AD87-E81E1976D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854460-A2A8-4CAA-9A38-142B691BF0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93AA-2FB5-4154-A359-5A1B390D86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9703-E409-476C-9E10-F5FA113D77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English</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ct. 15</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genda</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z</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7, journal respons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ch. 18 for homework, do 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OL</a:t>
            </a:r>
            <a:endParaRPr b="0" lang="en-US" sz="3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Quiz-May not use books.</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533520" indent="-533520">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ree rejections the creature faces in the chapters read for homework?</a:t>
            </a:r>
            <a:endParaRPr b="0" lang="en-US" sz="2800" spc="-1" strike="noStrike">
              <a:solidFill>
                <a:srgbClr val="ffffff"/>
              </a:solidFill>
              <a:latin typeface="Arial"/>
            </a:endParaRPr>
          </a:p>
          <a:p>
            <a:pPr marL="533520" indent="-533520">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id the old man accept the creature?</a:t>
            </a:r>
            <a:endParaRPr b="0" lang="en-US" sz="2800" spc="-1" strike="noStrike">
              <a:solidFill>
                <a:srgbClr val="ffffff"/>
              </a:solidFill>
              <a:latin typeface="Arial"/>
            </a:endParaRPr>
          </a:p>
          <a:p>
            <a:pPr marL="533520" indent="-533520">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e chapter end?</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ings to think about</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i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do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ournal response-2 par.</a:t>
            </a:r>
            <a:endParaRPr b="0" lang="en-US" sz="3900" spc="-1" strike="noStrike">
              <a:solidFill>
                <a:srgbClr val="ffffff"/>
              </a:solidFill>
              <a:latin typeface="Arial"/>
            </a:endParaRPr>
          </a:p>
        </p:txBody>
      </p:sp>
      <p:sp>
        <p:nvSpPr>
          <p:cNvPr id="12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movie clip we watched, we see a version of the creature that is attractive and accepted by Victor for a short while. Think about how this might have changed the creature and the path his life took. By making the creature hideous on the outside, but kind and intelligent, what does Mary Shelley seem to be saying about human beings and their judgment on what is attra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5:22:36Z</dcterms:created>
  <dc:creator>vhs</dc:creator>
  <dc:description/>
  <dc:language>en-US</dc:language>
  <cp:lastModifiedBy>Angie</cp:lastModifiedBy>
  <dcterms:modified xsi:type="dcterms:W3CDTF">2009-10-15T05:40:23Z</dcterms:modified>
  <cp:revision>2</cp:revision>
  <dc:subject/>
  <dc:title>English</dc:title>
</cp:coreProperties>
</file>